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9F99-B320-496B-8D97-C789C2649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4A24-9697-4D71-ADF1-B56C2C06F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71C2-ACFC-40E0-A018-9560DD3AC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F2FC-9BC3-4DF7-9CDD-ECAAA6502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5A5A-CDEA-4914-834F-C0FD33884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79C2-77B2-4BDA-B0FB-9B07E8F6D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47BE-ABCE-42EC-ACAC-3CC113B28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325B-B846-447E-BFA7-2B485CB9F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682D-C5A1-4A3D-BDDC-C4503952A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EF61-471D-4FDA-A3DD-D9C0804D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8531-1085-450F-84F4-C993EFED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A5CA-8DB6-4EAD-9786-A3BCF7D1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A8FB8-92B3-4910-BEF3-AF2836CE3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72-year-old patient knocks on the door of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the clinic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t 22.41, he is limping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 and rais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 the left trouser leg saying:</a:t>
            </a:r>
            <a:br>
              <a:rPr sz="3200"/>
            </a:b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My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 left knee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tardet swelling 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last night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, it is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 increasingly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ainful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, now it's already unsustainable.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 took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aracetamol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eto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ophen, but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o improvement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. "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What is the next step (23h)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Antibiotic treatment immedia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Laboratory + puncture immedia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Knee exercises, laboratory + puncture next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X-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Who shall perform knee pun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se who are qual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ic conditions for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un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Mu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nd a sample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icrobiological exa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case purulent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spiration mu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erfor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urther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Arial"/>
              </a:rPr>
              <a:t>NO ANTIBIOTIC UNTIL ASPIR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Emergency laboratory inverstig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0"/>
          <p:cNvPicPr/>
          <p:nvPr/>
        </p:nvPicPr>
        <p:blipFill>
          <a:blip r:embed="rId1"/>
          <a:stretch/>
        </p:blipFill>
        <p:spPr>
          <a:xfrm>
            <a:off x="2286000" y="17146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7"/>
          <p:cNvGrpSpPr/>
          <p:nvPr/>
        </p:nvGrpSpPr>
        <p:grpSpPr>
          <a:xfrm>
            <a:off x="990720" y="1494000"/>
            <a:ext cx="7315200" cy="4678200"/>
            <a:chOff x="990720" y="1494000"/>
            <a:chExt cx="7315200" cy="4678200"/>
          </a:xfrm>
        </p:grpSpPr>
        <p:pic>
          <p:nvPicPr>
            <p:cNvPr id="69" name="Picture 5" descr="M7250378-Fluid_aspiration_for_arthritis_treatment-SPL"/>
            <p:cNvPicPr/>
            <p:nvPr/>
          </p:nvPicPr>
          <p:blipFill>
            <a:blip r:embed="rId1"/>
            <a:stretch/>
          </p:blipFill>
          <p:spPr>
            <a:xfrm>
              <a:off x="1514520" y="1494000"/>
              <a:ext cx="6410160" cy="42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Rectangle 6"/>
            <p:cNvSpPr/>
            <p:nvPr/>
          </p:nvSpPr>
          <p:spPr>
            <a:xfrm>
              <a:off x="990720" y="5257800"/>
              <a:ext cx="73152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Where should we refer the pati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heumatolog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nfectolog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nternal medicine emerg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rthopaedic surge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 TO THE HOS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ambulance600"/>
          <p:cNvPicPr/>
          <p:nvPr/>
        </p:nvPicPr>
        <p:blipFill>
          <a:blip r:embed="rId1"/>
          <a:stretch/>
        </p:blipFill>
        <p:spPr>
          <a:xfrm>
            <a:off x="1143000" y="1219320"/>
            <a:ext cx="701028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Laboratory test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CRP 150</a:t>
            </a: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Leucocytes 11.5 with left-shift</a:t>
            </a: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lucose 13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unctur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50 ml, turbid, viscous, yellow-brown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lucometer (puncture fluid): Glucose 2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0000"/>
                </a:solidFill>
                <a:latin typeface="Arial"/>
              </a:rPr>
              <a:t>Whoult should be done with the puncture flui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end for microbiological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end for Gram staining, microbiological culture and microscopical exam (crysta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Macroscopical evaluation for bac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Throw away into a special container for biological wa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ram stain: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 in 2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Microbiological culture: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 in 1-2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Microscopic exam (crystals):     1 we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esently it is 01:00 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0000"/>
                </a:solidFill>
                <a:latin typeface="Arial"/>
              </a:rPr>
              <a:t>What does the pacient need at 01:00 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TPChart"/>
          <p:cNvGraphicFramePr/>
          <p:nvPr/>
        </p:nvGraphicFramePr>
        <p:xfrm>
          <a:off x="4572000" y="1714680"/>
          <a:ext cx="457200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714680"/>
                    <a:ext cx="45720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(Arthroscopic) knee lavage and i.v. a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.v. antibiotic, knee lavage only if no improvement in a few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eroral antibiotic and knee exer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mobillisation, antibiotic after micro cultures are ob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knee-deep"/>
          <p:cNvPicPr/>
          <p:nvPr/>
        </p:nvPicPr>
        <p:blipFill>
          <a:blip r:embed="rId1"/>
          <a:stretch/>
        </p:blipFill>
        <p:spPr>
          <a:xfrm>
            <a:off x="220968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nee lavage, possibly arthroscop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ossible blood cul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.v. atb, analgesic, immobilization, coo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fter microb. results adjustment of ATB therapy (negative result does not exclude septic arthritis!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epeat lavage if swelling rec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f 2-3 unsucsessful lavages: open arthrotom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0"/>
          <p:cNvPicPr/>
          <p:nvPr/>
        </p:nvPicPr>
        <p:blipFill>
          <a:blip r:embed="rId1"/>
          <a:stretch/>
        </p:blipFill>
        <p:spPr>
          <a:xfrm>
            <a:off x="2209680" y="1600200"/>
            <a:ext cx="48006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0000"/>
                </a:solidFill>
                <a:latin typeface="Arial"/>
              </a:rPr>
              <a:t>Long term consequences of </a:t>
            </a:r>
            <a:br>
              <a:rPr sz="4000"/>
            </a:br>
            <a:r>
              <a:rPr b="0" lang="sl-SI" sz="4000" spc="-1" strike="noStrike">
                <a:solidFill>
                  <a:srgbClr val="000000"/>
                </a:solidFill>
                <a:latin typeface="Arial"/>
              </a:rPr>
              <a:t>septic arthrit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oft tissue tum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nee osteoarthr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welling of other j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Meniscus rup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atural history of septic arthritis before the advent of antibio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- Joint osteoarthr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- Bony ankylosis (fibrous in TB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- Sepsis, sometimes even d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ko ločimo septični artritis od akutne puti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višan CRP pri septičnem artriti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višan urat pri akutni puti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 makroskopskem izgledu punkt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zitivna mikrobiologija in odsotnost kristalov v punkta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kšno je zdravljenje akutnega napada puti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unkcija, razgibavanje, gretje, alopurin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unkcija, imobilizacija, hlajenje, NS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.v. atb, izpiranje kolena, hlaje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Razbijanje kristalov z UZ valo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PTIČNI ARTR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AKE-HOME-MESS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(= </a:t>
            </a:r>
            <a:r>
              <a:rPr b="0" i="1" lang="sl-SI" sz="2800" spc="-1" strike="noStrike">
                <a:solidFill>
                  <a:srgbClr val="000000"/>
                </a:solidFill>
                <a:latin typeface="Arial"/>
              </a:rPr>
              <a:t>če ste prespali seminar, vsaj to poslušajt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zliv v sklepu + vročina ali mrzlica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um na septični artr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eptični artritis od putičnega lahko ločimo le z mikrobiološkimi-mikroskopskimi preiskavam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45720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AKE-HOME-MESS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Emergency,potentially serious consequ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Without patient history and exam you cannot properly treat or refer the 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Exam </a:t>
            </a:r>
            <a:r>
              <a:rPr b="0" lang="sl-SI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uncture/lab. </a:t>
            </a:r>
            <a:r>
              <a:rPr b="0" lang="sl-SI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lavage </a:t>
            </a:r>
            <a:r>
              <a:rPr b="0" lang="sl-SI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.v. antibi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itfalls: not recognizing emergency, delay, peroral antibiotic, antibiotic before puncture, no lav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PTIC ARTHR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228240" y="4724280"/>
            <a:ext cx="883908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hank you for saving my knee. I will recommend you to for the “Best ERASMUS Student” award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4818823-happy-elderly-man-in-a-garden"/>
          <p:cNvPicPr/>
          <p:nvPr/>
        </p:nvPicPr>
        <p:blipFill>
          <a:blip r:embed="rId1"/>
          <a:stretch/>
        </p:blipFill>
        <p:spPr>
          <a:xfrm>
            <a:off x="1447920" y="0"/>
            <a:ext cx="623880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What should we also ask in patient his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How long does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swelling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last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For the first time in my lif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Other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joints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Fever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? Chil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Trigger factors (trauma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Spontaneous pain, night pa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Other diseases, medications, allergies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he patient repl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Knee started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welling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ver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night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and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is getting wo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irst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time knee swelling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ther joints OK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He had a fever up to 38 °C, occasionally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chills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oes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 not remember inju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Pain at rest, even at 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Regularly taking insulin,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aller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What should be the next ste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nee pun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Clinical exa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eferral for laboratory test of inflammation (next d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mmediate transport to the hos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Clinical examination of the knee should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Inspection (measurements, comparison with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healthy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knee</a:t>
            </a: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Palpation (swelling, effusion or thicken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nflammation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signs</a:t>
            </a: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 (rubor, tumor, dolor, calor, f.l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Range of motion (outstretched = 0 ° of flex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Neurological status of the lower extrem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ainful</a:t>
            </a: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 point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3014"/>
          <p:cNvPicPr/>
          <p:nvPr/>
        </p:nvPicPr>
        <p:blipFill>
          <a:blip r:embed="rId1"/>
          <a:stretch/>
        </p:blipFill>
        <p:spPr>
          <a:xfrm>
            <a:off x="171468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Et examination you</a:t>
            </a: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 fi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Severely swollen left kn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Positive balottement (extensive effusion)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ithout redness, warm, pain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The mobility of the 20 ° - 50 ° of flexion (contractu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Neurological status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Diffuse tenderness, without localized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Blood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glucose</a:t>
            </a: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 (Glucometer) 12.0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reliminary diagnos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cute g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eptic arthr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iabetes wors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nee osteoarthritis wors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</cp:lastModifiedBy>
  <dcterms:modified xsi:type="dcterms:W3CDTF">2015-01-06T04:15:25Z</dcterms:modified>
  <cp:revision>17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